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E081-7E6E-4AFE-8788-23371E24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FC81-E3E0-44ED-9245-CE3AB8FF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529D-E282-4FCA-9D02-F21B1EFC2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D9F-3607-4BD9-A227-E5D25B143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E4CF-160C-4B4F-B9FF-E5F6DB80A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2553-831C-4AB5-A298-635BDB836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2E70-0981-4E6B-A3F1-A4615B00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3738-CE4D-4342-9816-4487A18D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lots of variation in spelling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7D18-14DF-4386-94DE-0350B5CE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405A-227B-4D60-BC1F-B4402CA0D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5E41-EB1E-4D63-894B-0D752776C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6C02-F64E-42B8-B2E8-A172C3FB0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5949-0C06-4AFD-B8BF-F70328AA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E31B-DBB2-4CBE-A81E-D12A424B6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CF32-0F1E-482D-A079-B7BD5771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the commonly used nouns we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ve s comes from Genitive Singular in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ral s comes from Nom-Acc Masculine Plural in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er Long Plurals lost the inflectional ending, leading to our words in which the plural is the same as the sin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67CE-C839-452D-8D21-9D38CAC6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one third of commonly used nouns were femin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eminine nouns were found in i-stems or u-stems decl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with long vowels, the nominative singular version had no inflectional e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B460-44A3-42A3-81A0-E98CA4C41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nouns are in the r-stem declension. These nouns formed the plural by adding an r after the ro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is originally from this group. But our modern plural form of children combines the r-stem plural with the n-stem (or weak noun) pl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uses root-consonant stems, but other names for this group are mutated plurals, vowel mutation, athematic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wel in the root changed due to i-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in the original form of the word, there was a suffix that had an ‘i’ in it. This suffix was lost, but the mutated vowel rema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42A-63C2-4197-A934-16AB86CC9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flectional ending was –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the second most common way to form the plural, but now the s plural has take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7DF3-215F-4295-B3C6-21E4F1734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B253-F742-4135-90E1-591CE30E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881F-5DD2-4BE5-BC92-3E4C47028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47F5-1BA4-4466-8D5E-B596F29C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7169-8FCC-49B6-9D74-01021FAC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4E5D-BDA1-4D97-A1B7-3DA46C475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D9C-A711-4CA0-8885-3E3157622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badd &amp; for fledd te flin w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yll I late you wit of seche tydyng as I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AA77-C620-4BD2-80D2-F95AE28FB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4434-7C71-4A21-A387-69FA7FDF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2DF9-FF09-427A-942E-3FD084975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81D1-C910-4149-84D2-77B75E7DD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FEF8-3446-4A1A-B5D4-E19B851B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0FD-7E99-4115-83F6-8C193ED5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5CA-2212-4CFA-A45E-24FD248F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93A5-1AF0-4385-A26F-36CC0762F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3F86-0C08-4D4B-AEE4-E803E1CA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6A1C-3DD8-4787-B7B9-38B5908A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C843-DE3D-4A88-A046-5FEDA2C20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D878-F108-47A9-B235-DD179F88D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4AB-1BC9-46DA-AEE7-A17C2A12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ED36-048E-4042-8C27-8AFF8AD7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244C-DFD8-4E8F-A664-42BA3758B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07C6-C124-4576-8446-DE0CCC395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C079-75FE-4056-8972-4DD8F18A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3D0-C304-4C19-A324-373FD430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3A79-3C54-4D2C-8051-2A8A655AF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760-2FD0-4548-B366-D126F8DBF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79C6-77F5-45D5-A7A3-4CFCFC6D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F191-7037-4A7D-9AB8-9EBC7AF5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54AC-DBCE-41AA-B045-E64930BE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68E5-FEFC-4E59-8B53-7741BCC3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C7C-F2A3-48AE-9241-B0429FE5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7C8-B640-48C9-8561-8F9C25C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EDF-6AB0-4A94-860E-6FE3EB07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73F-77FE-4381-9D9C-1598FA05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05D5-790B-48B3-9784-0B4BABEE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157B-5CE5-4C6C-8CCE-3DC22A92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BF83-4334-44CF-8B68-6A4F863A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1872-295E-401F-9552-96FB20E1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2D4B-F32A-4F66-B066-B76CFAB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2CC3-ECC0-40ED-8EE0-24D3B652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9DF-1BC9-4978-AD1C-B6FBEFA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A01-019E-48EB-A879-4CC8AEC5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D561-AA2E-40FB-8169-651093C6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62D9-0A4D-4391-883B-13D634B7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706F-DA29-47BA-9C7B-B43B136F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3928-EE90-45FC-9FBE-4A391BEA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9862-ADA6-4A6A-A631-11002F5B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E6B-94EE-4867-AA7C-022CA4DB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AA6-827D-407D-9367-E1A62F41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BDD-4E85-4AD6-9FB2-F90BB048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766-13F5-46C9-84C3-A047B214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B76-6024-48DA-B440-9AAE6C4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962-B417-4C87-A8E2-10D9A1DB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BB5-9633-4E3C-8E89-DA40E79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C1E4-B358-407B-AA21-C79EAB4ADA25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A8A1-F9BD-4EA9-A6A4-7C39AB2C931C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he Origins and Development of the English Language Chapter 6: The Middle English Period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Alg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Che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hengchi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914400" y="270000"/>
            <a:ext cx="792468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Old English Nouns: a-stems most common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927000" y="1523880"/>
          <a:ext cx="891540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1523880"/>
                    <a:ext cx="891540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Old English Nouns: 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ō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-stems were Feminine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1066680" y="1447920"/>
          <a:ext cx="9657000" cy="49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96570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Old English Nouns: r-stems, vowel mutation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990720" y="1523880"/>
          <a:ext cx="96472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9647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Old English Nouns: weak nou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1069920" y="1790640"/>
          <a:ext cx="112460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790640"/>
                    <a:ext cx="11246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Old English Strong declension of 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‘good man’ (guman is an n-stem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66680" y="1752480"/>
          <a:ext cx="7772400" cy="4525920"/>
        </p:xfrm>
        <a:graphic>
          <a:graphicData uri="http://schemas.openxmlformats.org/drawingml/2006/table">
            <a:tbl>
              <a:tblPr/>
              <a:tblGrid>
                <a:gridCol w="990720"/>
                <a:gridCol w="3200400"/>
                <a:gridCol w="3581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 g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 gum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m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m gum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ōde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Old English Weak declension of 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‘good man’ (n-stem noun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1752480"/>
          <a:ext cx="7772400" cy="4373640"/>
        </p:xfrm>
        <a:graphic>
          <a:graphicData uri="http://schemas.openxmlformats.org/drawingml/2006/table">
            <a:tbl>
              <a:tblPr/>
              <a:tblGrid>
                <a:gridCol w="990720"/>
                <a:gridCol w="3200400"/>
                <a:gridCol w="3581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 g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ā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ā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æ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āra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 (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d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) gum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ǣ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ǣ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m gum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ȳ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guman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haris SI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066680" y="685800"/>
          <a:ext cx="7772400" cy="5716440"/>
        </p:xfrm>
        <a:graphic>
          <a:graphicData uri="http://schemas.openxmlformats.org/drawingml/2006/table">
            <a:tbl>
              <a:tblPr/>
              <a:tblGrid>
                <a:gridCol w="381240"/>
                <a:gridCol w="457200"/>
                <a:gridCol w="914400"/>
                <a:gridCol w="1295280"/>
                <a:gridCol w="1447920"/>
                <a:gridCol w="1981080"/>
                <a:gridCol w="1295280"/>
              </a:tblGrid>
              <a:tr h="57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s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fe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ne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h, I, 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thou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the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h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h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s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o, sche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haris SIL"/>
                          <a:ea typeface="Charis SIL"/>
                        </a:rPr>
                        <a:t>ȝ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, 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hir(e), her(e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re, he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, it, h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i, min(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(e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(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r(e), heo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(e), h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haris SIL"/>
                          <a:ea typeface="Charis SIL"/>
                        </a:rPr>
                        <a:t>ȝ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, 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hi(e),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ho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, they, th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,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haris SIL"/>
                          <a:ea typeface="Charis SIL"/>
                        </a:rPr>
                        <a:t>ȝ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, eu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haris SIL"/>
                          <a:ea typeface="Charis SIL"/>
                        </a:rPr>
                        <a:t>ȝ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m, heom, them, thaim, theim, ham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m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(e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haris SIL"/>
                          <a:ea typeface="Charis SIL"/>
                        </a:rPr>
                        <a:t>ȝ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(e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(e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(e), their(e)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, heore, hore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, her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(e)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E Use of 2nd Person Singul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rpt from Orm’s Dedication Page (early 13th centu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 b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 wall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brother Wal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c hafe don swasum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badd &amp;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d 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i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done as you bade and performed your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c hafe wennd innttill ennglissh Goddspelles hallhe l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turned into English Gospel’s holy 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 Use of 2nd Person Plural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rpt from Richard Cely’s letter to his family (14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grete you wyll I late you wit of seche tydyng as I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greet you while I let you know of such tidings as I h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omas belhom hatth a letter from caleys the weche ys of a bate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Belhom hath a letter from Calais the which is of a batt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 Use of 2nd Person Plural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rpt from Sir Gawain and the Green Knight (c. 13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‘God moroun, Sir Gawayn,’ say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gay la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morning, Sir Gawain, said that gay l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‘</a:t>
            </a:r>
            <a:r>
              <a:rPr b="0" lang="en-US" sz="2400" spc="-1" strike="noStrike">
                <a:solidFill>
                  <a:srgbClr val="000000"/>
                </a:solidFill>
                <a:latin typeface="Charis SIL"/>
              </a:rPr>
              <a:t>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ar a sleper unsly</a:t>
            </a:r>
            <a:r>
              <a:rPr b="0" lang="en-US" sz="2400" spc="-1" strike="noStrike">
                <a:solidFill>
                  <a:srgbClr val="000000"/>
                </a:solidFill>
                <a:latin typeface="Charis SIL"/>
              </a:rPr>
              <a:t>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n may slyde hid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n unwary sleeper, that man may slide hith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 schal bynde yow in your bedd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be </a:t>
            </a:r>
            <a:r>
              <a:rPr b="0" lang="en-US" sz="2400" spc="-1" strike="noStrike">
                <a:solidFill>
                  <a:srgbClr val="000000"/>
                </a:solidFill>
                <a:latin typeface="Charis SIL"/>
              </a:rPr>
              <a:t>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trayst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shall bind you in your bed, that be you trust [= you be certain of that]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‘Goud moroun, gay,’ q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way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b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morning, gay,’ quoth the blithe Gawa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Me schal w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at your wille,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e wel lyke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 shall worthy at your will, and that me well lik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 Use of 2nd Person Plural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rpt from Margaret Paston’s letter to her new husband (15th centu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Ryth reverent and worscheful husbo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reverent and worshipful husb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recomaude me to yo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ecommend myself to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Desyryng hertyly to here of yowre wylf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ing heartily to hear of your welf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ankyng yow for the tokyn that ye sent 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ing you for the token that you sent m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976320" y="380880"/>
            <a:ext cx="78627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Middle English Spelling and Orthography Homework Answer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f (h,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 (f,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(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dge (h, 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ly (e, o,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od (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lt (c,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e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el 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she (t, f,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l (d, 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ete (u,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st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d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ve (j, q,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m (e,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(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chene (o, t, b,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 (l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g (t, 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d (o,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ud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send (p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le 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7612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0:05:16Z</dcterms:created>
  <dc:creator>M Cheng</dc:creator>
  <dc:description/>
  <dc:language>en-US</dc:language>
  <cp:lastModifiedBy>Michael Cheng</cp:lastModifiedBy>
  <dcterms:modified xsi:type="dcterms:W3CDTF">2015-04-17T00:22:54Z</dcterms:modified>
  <cp:revision>13</cp:revision>
  <dc:subject/>
  <dc:title>The Origins and Development of the English Language Chapter 6: The Middle English Period</dc:title>
</cp:coreProperties>
</file>